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F16-0F2E-4B6E-B64A-2DB2CED6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2DE-3C83-46F8-93A7-432935CD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204-568C-4D6F-8996-67C03603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080-273A-409A-9BC2-96A06144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F84-7187-4D73-A601-B2DD9D08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522-D846-40DD-B2D7-8F5734F9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BDA-4C11-472A-955F-F2A742A1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4B7-D6B4-42E0-8696-8303C2A3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1BB-D333-4590-B152-0A024478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A70-1ED1-454F-9EFF-D88EB9F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94B-1201-4747-9583-97CBC9E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4C3-5C9A-49D4-BEA6-4EC39B85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EE9D-3257-4EF3-8BE2-4139431D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aigh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547640" y="14000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720" y="29844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8360" y="1544760"/>
            <a:ext cx="331164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14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6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98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2984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85840" y="11779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580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2)   (6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3380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723744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780080" y="2035080"/>
                <a:ext cx="2120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316480" y="3068640"/>
                <a:ext cx="98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55640" y="371628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41240" y="4346640"/>
                <a:ext cx="166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5640" y="5283360"/>
                <a:ext cx="166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187280" y="1406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9908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1616040"/>
            <a:ext cx="237636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9844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4764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2990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98560" y="11844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0872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4)   (1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07672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738036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724280" y="2035080"/>
                <a:ext cx="2521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824360" y="3106800"/>
                <a:ext cx="1260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55640" y="364644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90480" y="4130640"/>
                <a:ext cx="19368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36920" y="4376880"/>
                <a:ext cx="1998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72080" y="4130640"/>
                <a:ext cx="2276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564240" y="5157720"/>
                <a:ext cx="1536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837480" y="5805360"/>
                <a:ext cx="830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"/>
          <p:cNvGrpSpPr/>
          <p:nvPr/>
        </p:nvGrpSpPr>
        <p:grpSpPr>
          <a:xfrm>
            <a:off x="684360" y="5283360"/>
            <a:ext cx="1942920" cy="954000"/>
            <a:chOff x="684360" y="5283360"/>
            <a:chExt cx="1942920" cy="954000"/>
          </a:xfrm>
        </p:grpSpPr>
        <p:sp>
          <p:nvSpPr>
            <p:cNvPr id="313" name=""/>
            <p:cNvSpPr/>
            <p:nvPr/>
          </p:nvSpPr>
          <p:spPr>
            <a:xfrm>
              <a:off x="684360" y="5300640"/>
              <a:ext cx="194292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84360" y="5283360"/>
                  <a:ext cx="193644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547640" y="139968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720" y="278136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58920" y="1484280"/>
            <a:ext cx="2160720" cy="18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134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10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28465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0,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5840" y="11779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580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-3)   (10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93380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723744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11600" y="2035080"/>
                <a:ext cx="2459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376960" y="3328920"/>
                <a:ext cx="861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55640" y="379080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817560" y="4576680"/>
                <a:ext cx="1506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893880" y="5513400"/>
                <a:ext cx="1382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332000" y="1406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29908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55640" y="1514160"/>
            <a:ext cx="266400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0560" y="155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9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24145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2990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98560" y="11844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3)   (9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7672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738036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754520" y="2035080"/>
                <a:ext cx="2460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962600" y="3106800"/>
                <a:ext cx="98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55640" y="364644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28720" y="4130640"/>
                <a:ext cx="16603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498840" y="4376880"/>
                <a:ext cx="1874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9,7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516720" y="4130640"/>
                <a:ext cx="1844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670800" y="5157720"/>
                <a:ext cx="1322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37480" y="5805360"/>
                <a:ext cx="830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"/>
          <p:cNvGrpSpPr/>
          <p:nvPr/>
        </p:nvGrpSpPr>
        <p:grpSpPr>
          <a:xfrm>
            <a:off x="684360" y="5283360"/>
            <a:ext cx="1942920" cy="954000"/>
            <a:chOff x="684360" y="5283360"/>
            <a:chExt cx="1942920" cy="954000"/>
          </a:xfrm>
        </p:grpSpPr>
        <p:sp>
          <p:nvSpPr>
            <p:cNvPr id="351" name=""/>
            <p:cNvSpPr/>
            <p:nvPr/>
          </p:nvSpPr>
          <p:spPr>
            <a:xfrm>
              <a:off x="684360" y="5300640"/>
              <a:ext cx="194292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822240" y="5283360"/>
                  <a:ext cx="166068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equation of the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32000" y="620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29908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981000"/>
            <a:ext cx="180036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84360" y="2414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5080" y="11174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92360" y="2990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47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1154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7)   (4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76720" y="836640"/>
                <a:ext cx="1814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7380360" y="873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830840" y="2035080"/>
                <a:ext cx="230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59280" y="3213000"/>
                <a:ext cx="1138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09560" y="3500280"/>
                <a:ext cx="1630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684360" y="4581360"/>
                <a:ext cx="1722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529080" y="4521240"/>
                <a:ext cx="1812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,7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56240" y="4390920"/>
                <a:ext cx="1967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6562800" y="5157720"/>
                <a:ext cx="1538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837480" y="5805360"/>
                <a:ext cx="830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2" name=""/>
          <p:cNvGrpSpPr/>
          <p:nvPr/>
        </p:nvGrpSpPr>
        <p:grpSpPr>
          <a:xfrm>
            <a:off x="684360" y="5300640"/>
            <a:ext cx="1942920" cy="936720"/>
            <a:chOff x="684360" y="5300640"/>
            <a:chExt cx="1942920" cy="936720"/>
          </a:xfrm>
        </p:grpSpPr>
        <p:sp>
          <p:nvSpPr>
            <p:cNvPr id="373" name=""/>
            <p:cNvSpPr/>
            <p:nvPr/>
          </p:nvSpPr>
          <p:spPr>
            <a:xfrm>
              <a:off x="684360" y="5300640"/>
              <a:ext cx="194292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776160" y="5545080"/>
                  <a:ext cx="1752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30080" y="4005360"/>
                <a:ext cx="1630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traight line, find coord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627280" y="981000"/>
            <a:ext cx="0" cy="258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320688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11280" y="1832040"/>
            <a:ext cx="2376720" cy="16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11640" y="32004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184464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y + 2x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20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68360" y="83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89120" y="19512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1960" y="31748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95640" y="1838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4149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A lies on y ax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6360" y="4149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coor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414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35640" y="414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y + 0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93080" y="4149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48000" y="4726080"/>
            <a:ext cx="15112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(0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5294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B lies on y ax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16360" y="52941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coor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5294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35640" y="5294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+ 2x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93080" y="529416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48000" y="5915160"/>
            <a:ext cx="151128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(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ous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raight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4920" y="685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 the followin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62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= x -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66880" y="228600"/>
            <a:ext cx="6629040" cy="5917320"/>
            <a:chOff x="2666880" y="228600"/>
            <a:chExt cx="6629040" cy="5917320"/>
          </a:xfrm>
        </p:grpSpPr>
        <p:grpSp>
          <p:nvGrpSpPr>
            <p:cNvPr id="404" name=""/>
            <p:cNvGrpSpPr/>
            <p:nvPr/>
          </p:nvGrpSpPr>
          <p:grpSpPr>
            <a:xfrm>
              <a:off x="2666880" y="228600"/>
              <a:ext cx="6629040" cy="5917320"/>
              <a:chOff x="2666880" y="228600"/>
              <a:chExt cx="6629040" cy="591732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5402880" y="58572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66880" y="252468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689440" y="585720"/>
                <a:ext cx="0" cy="5560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6293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991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595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8983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1992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5024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80444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106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666880" y="581040"/>
                <a:ext cx="0" cy="555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2968920" y="579600"/>
                <a:ext cx="0" cy="556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5730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2706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876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178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480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7818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50853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66880" y="2804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66880" y="3359520"/>
                <a:ext cx="6043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66880" y="30812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666880" y="36367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66880" y="39164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66880" y="41936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66880" y="4471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66880" y="4749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666880" y="5056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666880" y="57636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66880" y="856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66880" y="113508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66880" y="1412280"/>
                <a:ext cx="60436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66880" y="1678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66880" y="1968840"/>
                <a:ext cx="6043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66880" y="2247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82360" y="5347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675880" y="5612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73360" y="6140880"/>
                <a:ext cx="6043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421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8723160" y="583200"/>
                <a:ext cx="0" cy="556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78400" y="5881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81800" y="228600"/>
                <a:ext cx="6242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672760" y="3182040"/>
                <a:ext cx="623160" cy="57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048120" y="3390840"/>
              <a:ext cx="5257800" cy="307080"/>
              <a:chOff x="3048120" y="3390840"/>
              <a:chExt cx="5257800" cy="307080"/>
            </a:xfrm>
          </p:grpSpPr>
          <p:sp>
            <p:nvSpPr>
              <p:cNvPr id="450" name=""/>
              <p:cNvSpPr/>
              <p:nvPr/>
            </p:nvSpPr>
            <p:spPr>
              <a:xfrm>
                <a:off x="58672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722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771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816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0866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915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6960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010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814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8769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720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670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625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576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3526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481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334120" y="2971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72280" y="26668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2280" y="24004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72280" y="2133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72280" y="1828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72280" y="156204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72280" y="12762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72280" y="990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3505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95960" y="38098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95960" y="4038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95960" y="4343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95960" y="4572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95960" y="487692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95960" y="5181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95960" y="5486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95960" y="5715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9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50840" y="2527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+ 2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236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50920" y="2990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79280" y="3932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y - x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0840" y="4830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2y +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2360" y="43639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52941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     ,     )      (     ,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685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w the followin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9280" y="1628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= x -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666880" y="228600"/>
            <a:ext cx="6629040" cy="5917320"/>
            <a:chOff x="2666880" y="228600"/>
            <a:chExt cx="6629040" cy="5917320"/>
          </a:xfrm>
        </p:grpSpPr>
        <p:grpSp>
          <p:nvGrpSpPr>
            <p:cNvPr id="493" name=""/>
            <p:cNvGrpSpPr/>
            <p:nvPr/>
          </p:nvGrpSpPr>
          <p:grpSpPr>
            <a:xfrm>
              <a:off x="2666880" y="228600"/>
              <a:ext cx="6629040" cy="5917320"/>
              <a:chOff x="2666880" y="228600"/>
              <a:chExt cx="6629040" cy="5917320"/>
            </a:xfrm>
          </p:grpSpPr>
          <p:sp>
            <p:nvSpPr>
              <p:cNvPr id="494" name=""/>
              <p:cNvSpPr/>
              <p:nvPr/>
            </p:nvSpPr>
            <p:spPr>
              <a:xfrm flipV="1">
                <a:off x="5402880" y="58572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66880" y="252468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689440" y="585720"/>
                <a:ext cx="0" cy="5560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293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5991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595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8983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71992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75024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780444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106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2666880" y="581040"/>
                <a:ext cx="0" cy="5559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2968920" y="579600"/>
                <a:ext cx="0" cy="5561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5730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2706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387612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41781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48020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47818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08536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66880" y="2804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66880" y="3359520"/>
                <a:ext cx="6043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66880" y="30812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666880" y="36367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66880" y="39164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66880" y="419364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66880" y="4471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66880" y="4749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66880" y="50569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2666880" y="57636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666880" y="856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666880" y="1135080"/>
                <a:ext cx="6043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66880" y="1412280"/>
                <a:ext cx="60436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666880" y="1678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666880" y="1968840"/>
                <a:ext cx="6043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66880" y="22471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82360" y="53478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675880" y="561240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673360" y="6140880"/>
                <a:ext cx="6043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421480" y="581760"/>
                <a:ext cx="0" cy="5560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8723160" y="583200"/>
                <a:ext cx="0" cy="556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678400" y="5881320"/>
                <a:ext cx="6043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81800" y="228600"/>
                <a:ext cx="62424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672760" y="3182040"/>
                <a:ext cx="623160" cy="57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3048120" y="3390840"/>
              <a:ext cx="5257800" cy="307080"/>
              <a:chOff x="3048120" y="3390840"/>
              <a:chExt cx="5257800" cy="307080"/>
            </a:xfrm>
          </p:grpSpPr>
          <p:sp>
            <p:nvSpPr>
              <p:cNvPr id="539" name=""/>
              <p:cNvSpPr/>
              <p:nvPr/>
            </p:nvSpPr>
            <p:spPr>
              <a:xfrm>
                <a:off x="58672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1722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4771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66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91520" y="3390840"/>
                <a:ext cx="304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69608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001000" y="3390840"/>
                <a:ext cx="30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1814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8769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2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720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3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670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4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625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5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5760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6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352680" y="3390840"/>
                <a:ext cx="3812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7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48120" y="3390840"/>
                <a:ext cx="380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-8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5334120" y="2971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72280" y="26668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72280" y="240048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72280" y="2133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72280" y="18288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72280" y="156204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2280" y="127620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2280" y="990720"/>
              <a:ext cx="304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34120" y="3505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95960" y="38098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95960" y="4038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3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95960" y="4343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95960" y="4572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95960" y="487692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6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95960" y="518148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95960" y="54864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95960" y="5715000"/>
              <a:ext cx="380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9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50840" y="2527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y + 2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236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10,3)      (3,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2990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0,2)      (-2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9280" y="3932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y - x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0840" y="4830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2y +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2360" y="43639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2,8)      (0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52941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(1,1)      (-5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650440" y="2459160"/>
            <a:ext cx="12996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27880" y="4387680"/>
            <a:ext cx="14436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16600" y="1595520"/>
            <a:ext cx="1429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627520" y="2733840"/>
            <a:ext cx="1429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788000" y="2421000"/>
            <a:ext cx="4032000" cy="3672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54520" y="1006560"/>
            <a:ext cx="237492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102200" y="2179800"/>
            <a:ext cx="144360" cy="1425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27760" y="3009960"/>
            <a:ext cx="144360" cy="14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26080" y="1611360"/>
            <a:ext cx="144360" cy="14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27640" y="1065240"/>
            <a:ext cx="144720" cy="142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626920" y="574560"/>
            <a:ext cx="4249800" cy="39592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700360" y="1569960"/>
            <a:ext cx="5818320" cy="26431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7636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x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144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+ x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03280" y="2852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x – 2 = 3x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58920" y="3309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x – 3x = 8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03280" y="37418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x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03280" y="41734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16000" y="4822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3x5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03280" y="56149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, y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61080" y="2878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2 + x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292720" y="3309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– 2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24360" y="37418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69080" y="41022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92720" y="4822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3 x 4 –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81800" y="56149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, y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5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77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0" dur="770" fill="hold"/>
                                        <p:tgtEl>
                                          <p:spTgt spid="6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2" dur="77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4" dur="77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gradient of the following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547640" y="120312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7874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55640" y="1347840"/>
            <a:ext cx="331164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3683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2)   (5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127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5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852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-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2720" y="2787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98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12000" y="12096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7939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6000" y="1419120"/>
            <a:ext cx="237636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27874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14922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27939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2920" y="9874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11280" y="3365640"/>
                <a:ext cx="18144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2914560" y="3402000"/>
            <a:ext cx="16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4564080"/>
                <a:ext cx="2274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09640" y="5635800"/>
                <a:ext cx="98424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17960" y="3357720"/>
                <a:ext cx="181476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7093080" y="3710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6)   (1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342900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38760" y="4564080"/>
                <a:ext cx="2520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59280" y="5645160"/>
                <a:ext cx="1230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 by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6836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3640" y="1341360"/>
            <a:ext cx="165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3x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+ x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45080" y="1341360"/>
            <a:ext cx="16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 + 3b =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a – 4b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5280" y="35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1 = x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5280" y="3957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x = 7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4389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x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48211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08000" y="54705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4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95280" y="62625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4, y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3525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x – 1 + x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274920" y="39574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– 1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06920" y="43894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4x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51280" y="47498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274920" y="54705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= 3 x 5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64000" y="62625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5, y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15280" y="1413000"/>
            <a:ext cx="2890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317080" y="1846440"/>
            <a:ext cx="288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443640" y="2276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a = 13 – 3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88000" y="2671920"/>
            <a:ext cx="201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=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3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859280" y="3141720"/>
            <a:ext cx="1513080" cy="398880"/>
            <a:chOff x="4859280" y="3141720"/>
            <a:chExt cx="1513080" cy="398880"/>
          </a:xfrm>
        </p:grpSpPr>
        <p:sp>
          <p:nvSpPr>
            <p:cNvPr id="627" name=""/>
            <p:cNvSpPr/>
            <p:nvPr/>
          </p:nvSpPr>
          <p:spPr>
            <a:xfrm>
              <a:off x="4859280" y="3141720"/>
              <a:ext cx="15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Sub in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0360" y="3178080"/>
              <a:ext cx="289080" cy="28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6372360" y="3141720"/>
            <a:ext cx="262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(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3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– 4b = 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516720" y="3608280"/>
            <a:ext cx="24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39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9b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4b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16720" y="4076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9 – 9b – 8b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88000" y="4471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9 – 17b =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51640" y="49039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227640" y="5479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a + 3 = 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93080" y="584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=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16720" y="623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= 5, b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1916280"/>
            <a:ext cx="5832720" cy="1017360"/>
            <a:chOff x="539640" y="1916280"/>
            <a:chExt cx="5832720" cy="1017360"/>
          </a:xfrm>
        </p:grpSpPr>
        <p:sp>
          <p:nvSpPr>
            <p:cNvPr id="638" name=""/>
            <p:cNvSpPr/>
            <p:nvPr/>
          </p:nvSpPr>
          <p:spPr>
            <a:xfrm>
              <a:off x="539640" y="2565360"/>
              <a:ext cx="47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DON’T WORRY THERE’S A BETTER 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5003640" y="1916280"/>
              <a:ext cx="1368720" cy="720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9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5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0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following by eli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1989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a + 2b = 17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4559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5a – 2b = 23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9640" y="3213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+ (2)       8a        = 40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72428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1)      3 x 5 + 2b   = 17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68360" y="5229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15 + 2b   = 17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844720" y="56610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b   = 2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87640" y="605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b   = 1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357336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a       = 5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76720" y="1989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a + 2b = 15 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76720" y="24559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+ 2b = 13 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13080" y="321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- (2)       2a  = 2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32360" y="4724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2)      1 + 2b   = 13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661080" y="5229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b   = 12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734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b   = 6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24360" y="3573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a  = 1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8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following by eli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35280" y="1989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x + 2y = 18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455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x + y  = 11 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14172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) X 2      4x + 2y = 22        - - -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9640" y="4184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3) – (1)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x          = 4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39640" y="4724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2)      2 x 4 + y   = 11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5229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8 + y   = 11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9640" y="6056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y   = 3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24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ve the following by eli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35280" y="162864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4m – 3n = 7 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5280" y="206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5m + 2n = 26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7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X 2      8m – 6n = 14        - - -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4360" y="3213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) X 3     15m + 6n = 78       - - -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9640" y="3645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3) + (4)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23m        = 92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9640" y="4832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2)      4 x 4 + 2n   = 26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5337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16  + 2n   = 26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9640" y="5769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n   = 1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9640" y="6200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n   = 5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24000" y="4040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m        = 4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adults and two children attended the cinema and were charged £19. Another party consisting of five adults and three children cost £30.75 to enter the same cinema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cost of an adult and child's ti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35280" y="1989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a + 2c = 19.00        - - -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35280" y="2455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5a + 3c = 30.75        - - -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4360" y="31417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1) X 3      9a + 6c = 57.00        - - -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3573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2) X 2     10a + 6c = 61.50       - - -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9640" y="4184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(4) – (3)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a          = 4.50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9640" y="4724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om (1)      3 x 4.50 + 2c   = 19.0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9640" y="522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13.50 + 2c   = 19.0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9640" y="566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c   = 5.50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6056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c   = 2.75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308720" y="1413000"/>
            <a:ext cx="1597320" cy="1088640"/>
            <a:chOff x="7308720" y="1413000"/>
            <a:chExt cx="1597320" cy="1088640"/>
          </a:xfrm>
        </p:grpSpPr>
        <p:sp>
          <p:nvSpPr>
            <p:cNvPr id="686" name="Film"/>
            <p:cNvSpPr/>
            <p:nvPr/>
          </p:nvSpPr>
          <p:spPr>
            <a:xfrm>
              <a:off x="7308720" y="1690200"/>
              <a:ext cx="666360" cy="8114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ound"/>
            <p:cNvSpPr/>
            <p:nvPr/>
          </p:nvSpPr>
          <p:spPr>
            <a:xfrm>
              <a:off x="7694280" y="1413000"/>
              <a:ext cx="925200" cy="5382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Photo"/>
            <p:cNvSpPr/>
            <p:nvPr/>
          </p:nvSpPr>
          <p:spPr>
            <a:xfrm>
              <a:off x="8046720" y="1732320"/>
              <a:ext cx="859320" cy="4874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Music"/>
            <p:cNvSpPr/>
            <p:nvPr/>
          </p:nvSpPr>
          <p:spPr>
            <a:xfrm>
              <a:off x="8145720" y="2018520"/>
              <a:ext cx="704880" cy="4708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4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4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gradient of the lines connecting th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9624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-1)  (7,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24000" y="2644920"/>
                <a:ext cx="2122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914560" y="2681280"/>
            <a:ext cx="165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28760" y="3843360"/>
                <a:ext cx="3135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55480" y="4915080"/>
                <a:ext cx="15685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3280" y="2637000"/>
                <a:ext cx="2152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093080" y="29894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,8)   (1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2708280"/>
            <a:ext cx="165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x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y</a:t>
            </a:r>
            <a:r>
              <a:rPr b="0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43280" y="3843360"/>
                <a:ext cx="3105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40360" y="5180040"/>
                <a:ext cx="1260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84360" y="1268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   A(-3,-1) and B(7,-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   C(6,8) and D(1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gradient and Y-intercept of each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8000" y="1655640"/>
                <a:ext cx="8656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32000" y="907920"/>
                <a:ext cx="2860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55640" y="4611600"/>
                <a:ext cx="12952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322880" y="2735280"/>
                <a:ext cx="1473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444920" y="4778280"/>
                <a:ext cx="11178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232760" y="2708280"/>
                <a:ext cx="1574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283520" y="3289320"/>
                <a:ext cx="1600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337520" y="4581360"/>
                <a:ext cx="109224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gradient and Y-intercept of each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12680" y="1655640"/>
                <a:ext cx="87804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32000" y="907920"/>
                <a:ext cx="2860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70120" y="4586400"/>
                <a:ext cx="106668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38520" y="2735280"/>
                <a:ext cx="1041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038480" y="4778280"/>
                <a:ext cx="19306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308720" y="2708280"/>
                <a:ext cx="1422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372440" y="3289320"/>
                <a:ext cx="1422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232760" y="4541760"/>
                <a:ext cx="137160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99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2514600" y="1828800"/>
            <a:ext cx="2057400" cy="41148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  y = 3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  y = 2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  y = 2x +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  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 =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m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295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m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 = </a:t>
            </a:r>
            <a:r>
              <a:rPr b="0" lang="en-GB" sz="2400" spc="-1" strike="noStrike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y = 2x </a:t>
            </a:r>
            <a:r>
              <a:rPr b="0" lang="en-GB" sz="2400" spc="-1" strike="noStrike">
                <a:solidFill>
                  <a:srgbClr val="ff66ff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144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990720" y="1905120"/>
            <a:ext cx="4114800" cy="213336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  y = 2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  y = ½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  2y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  2y = 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m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1295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m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y = ½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189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371600" y="1295280"/>
            <a:ext cx="3886200" cy="1524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4267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.  y =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.  y = ½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  5y + 2x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.  2y = 5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609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m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1295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m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GB" sz="2400" spc="-1" strike="noStrike" baseline="30000">
                <a:solidFill>
                  <a:srgbClr val="0066ff"/>
                </a:solidFill>
                <a:latin typeface="Times New Roman"/>
              </a:rPr>
              <a:t>-2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c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514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y = -</a:t>
            </a:r>
            <a:r>
              <a:rPr b="0" lang="en-GB" sz="2400" spc="-1" strike="noStrike" baseline="30000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/</a:t>
            </a:r>
            <a:r>
              <a:rPr b="0" lang="en-GB" sz="2400" spc="-1" strike="noStrike" baseline="-25000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ff66ff"/>
                </a:solidFill>
                <a:latin typeface="Times New Roman"/>
              </a:rPr>
              <a:t> 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04920" y="76320"/>
            <a:ext cx="6247800" cy="6171840"/>
            <a:chOff x="304920" y="76320"/>
            <a:chExt cx="6247800" cy="6171840"/>
          </a:xfrm>
        </p:grpSpPr>
        <p:sp>
          <p:nvSpPr>
            <p:cNvPr id="234" name=""/>
            <p:cNvSpPr/>
            <p:nvPr/>
          </p:nvSpPr>
          <p:spPr>
            <a:xfrm>
              <a:off x="3180960" y="3124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04920" y="381240"/>
              <a:ext cx="6019200" cy="5866920"/>
              <a:chOff x="304920" y="381240"/>
              <a:chExt cx="6019200" cy="58669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581040" y="500040"/>
                <a:ext cx="5425200" cy="5477040"/>
                <a:chOff x="581040" y="500040"/>
                <a:chExt cx="5425200" cy="54770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810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45608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90592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3557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13084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68100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6200000">
                  <a:off x="3097800" y="-20160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231160" y="50040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6200000">
                  <a:off x="3097800" y="71856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6200000">
                  <a:off x="3097800" y="150192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6200000">
                  <a:off x="3097800" y="22852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6200000">
                  <a:off x="3097800" y="-123948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6200000">
                  <a:off x="3097800" y="30686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6200000">
                  <a:off x="3097800" y="-84780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16200000">
                  <a:off x="3097800" y="-64440"/>
                  <a:ext cx="391680" cy="5425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0800000">
                  <a:off x="5618880" y="500040"/>
                  <a:ext cx="387360" cy="547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3290400" y="381240"/>
                <a:ext cx="0" cy="58669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304920" y="3231720"/>
                <a:ext cx="601920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686120" y="32450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66960" y="3238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52360" y="22924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1440" y="15116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440" y="7243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564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2450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1760" y="32450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24000" y="3245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38545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53787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19160" y="76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V="1">
            <a:off x="1371600" y="1267920"/>
            <a:ext cx="3921120" cy="27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(2,5),(4,5),(-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co-ord always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y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22520" y="2060640"/>
            <a:ext cx="0" cy="33130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4195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(-2,3),(-2,-5),(-2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48434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x co-ord always 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348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x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02:38Z</dcterms:created>
  <dc:creator/>
  <dc:description/>
  <dc:language>en-US</dc:language>
  <cp:lastModifiedBy/>
  <dcterms:modified xsi:type="dcterms:W3CDTF">2007-08-30T09:19:34Z</dcterms:modified>
  <cp:revision>25</cp:revision>
  <dc:subject/>
  <dc:title>The Straight Line</dc:title>
</cp:coreProperties>
</file>